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44E-8E9F-46B5-8FC9-B5AC4BB3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7B6-51FA-45C3-BCD1-F0225A8B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AFD-96ED-46ED-896D-00DF3269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F96-9C8D-4A99-A9D8-83B45597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25C-72D9-4E82-B316-764E8EDC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467-4FC1-4B84-BD07-00BF1CBD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869-BC18-4BDD-9E9F-43F8CA09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BEF-F732-4623-88E1-C9F6D99F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C4E7-29BF-4405-A99C-47BF8CC0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3F5-A675-498B-91B0-E7A457B1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33E-FAEE-4AE5-A5FA-BC429460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55B-8AD7-4B96-AD22-EBFFDA8A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ABBC-A13D-48A5-B492-93B84D3276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05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5029200" cy="360684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808080"/>
            </a:outerShdw>
          </a:effectLst>
        </p:spPr>
      </p:pic>
      <p:pic>
        <p:nvPicPr>
          <p:cNvPr id="45" name="03" descr=""/>
          <p:cNvPicPr/>
          <p:nvPr/>
        </p:nvPicPr>
        <p:blipFill>
          <a:blip r:embed="rId2"/>
          <a:stretch/>
        </p:blipFill>
        <p:spPr>
          <a:xfrm>
            <a:off x="3733920" y="2962440"/>
            <a:ext cx="5257800" cy="3770280"/>
          </a:xfrm>
          <a:prstGeom prst="rect">
            <a:avLst/>
          </a:prstGeom>
          <a:ln w="0">
            <a:noFill/>
          </a:ln>
          <a:effectLst>
            <a:outerShdw dist="63504" dir="2216091" blurRad="0" rotWithShape="0">
              <a:srgbClr val="808080"/>
            </a:outerShdw>
          </a:effectLst>
        </p:spPr>
      </p:pic>
      <p:sp>
        <p:nvSpPr>
          <p:cNvPr id="46" name=""/>
          <p:cNvSpPr/>
          <p:nvPr/>
        </p:nvSpPr>
        <p:spPr>
          <a:xfrm flipH="1" rot="16200000">
            <a:off x="2496600" y="4969440"/>
            <a:ext cx="1557360" cy="1676520"/>
          </a:xfrm>
          <a:custGeom>
            <a:avLst/>
            <a:gdLst>
              <a:gd name="textAreaLeft" fmla="*/ 360 w 1557360"/>
              <a:gd name="textAreaRight" fmla="*/ 1558080 w 15573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3018" y="10452"/>
                </a:moveTo>
                <a:arcTo wR="-7790" hR="-7790" stAng="-10646391" swAng="-5866338"/>
                <a:lnTo>
                  <a:pt x="9819" y="45"/>
                </a:lnTo>
                <a:arcTo wR="10800" hR="10800" stAng="-5712729" swAng="5866338"/>
                <a:lnTo>
                  <a:pt x="24287" y="11403"/>
                </a:lnTo>
                <a:lnTo>
                  <a:pt x="19898" y="15416"/>
                </a:lnTo>
                <a:lnTo>
                  <a:pt x="15885" y="11027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52280"/>
            <a:ext cx="830556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「よめるどっとこむ」はニュースサイトの記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ルビを振り、注釈をつけ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より読みやすい記事へと自動的に変換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1828800"/>
            <a:ext cx="8305560" cy="472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matsui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3807000" cy="731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76320"/>
            <a:ext cx="830556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【ルビ振り機能について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07840" y="25909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当て字にも自動的にルビが振れちゃい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83800" y="533412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数あるルビ振りシステムの中で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創英角ｺﾞｼｯｸUB"/>
              </a:rPr>
              <a:t>当て字にルビを振る機能はオンリーワ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3505320"/>
            <a:ext cx="4647960" cy="1447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76320"/>
            <a:ext cx="8305560" cy="6476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おわ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34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76320"/>
            <a:ext cx="830556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「よめるどっとこむ」のトップページ。</a:t>
            </a:r>
            <a:br>
              <a:rPr sz="2400"/>
            </a:b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ルビがふってあって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キーワードが強調され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338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76320"/>
            <a:ext cx="830556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記事のつづきを読んでみましょ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3048120"/>
            <a:ext cx="1600200" cy="761760"/>
          </a:xfrm>
          <a:prstGeom prst="leftArrow">
            <a:avLst>
              <a:gd name="adj1" fmla="val 50000"/>
              <a:gd name="adj2" fmla="val 52517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imes New Roman"/>
                <a:ea typeface="HG創英角ｺﾞｼｯｸUB"/>
              </a:rPr>
              <a:t>クリッ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0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340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76320"/>
            <a:ext cx="830556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0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338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76320"/>
            <a:ext cx="830556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あ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0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340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76320"/>
            <a:ext cx="830556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「青森県」ってなんか気になる！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429000"/>
            <a:ext cx="99072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0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338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76320"/>
            <a:ext cx="830556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「青森県」ってなんか気になる！</a:t>
            </a:r>
            <a:br>
              <a:rPr sz="2400"/>
            </a:b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カーソルをもっていくと・・・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58128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03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338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76320"/>
            <a:ext cx="830556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「青森県」ってなんか気になる！</a:t>
            </a:r>
            <a:br>
              <a:rPr sz="2400"/>
            </a:b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カーソルをもっていくと・・・？</a:t>
            </a:r>
            <a:br>
              <a:rPr sz="2400"/>
            </a:b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青森県について詳しくなりました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0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338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76320"/>
            <a:ext cx="830556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【キーワードへの注釈について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誰でも更新できるオンライン百科事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imes New Roman"/>
                <a:ea typeface="HG創英角ｺﾞｼｯｸUB"/>
              </a:rPr>
              <a:t>「ウィキペディア」より抽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7:29:54Z</dcterms:created>
  <dc:creator>ishida</dc:creator>
  <dc:description/>
  <dc:language>en-US</dc:language>
  <cp:lastModifiedBy>ishida</cp:lastModifiedBy>
  <dcterms:modified xsi:type="dcterms:W3CDTF">2004-01-29T08:03:22Z</dcterms:modified>
  <cp:revision>3</cp:revision>
  <dc:subject/>
  <dc:title>PowerPoint プレゼンテーション</dc:title>
</cp:coreProperties>
</file>